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</p:sldMasterIdLst>
  <p:sldIdLst>
    <p:sldId id="256" r:id="rId25"/>
    <p:sldId id="257" r:id="rId26"/>
    <p:sldId id="258" r:id="rId27"/>
    <p:sldId id="259" r:id="rId28"/>
    <p:sldId id="260" r:id="rId29"/>
    <p:sldId id="261" r:id="rId30"/>
    <p:sldId id="262" r:id="rId31"/>
    <p:sldId id="263" r:id="rId32"/>
    <p:sldId id="264" r:id="rId33"/>
    <p:sldId id="265" r:id="rId34"/>
    <p:sldId id="266" r:id="rId35"/>
    <p:sldId id="267" r:id="rId36"/>
    <p:sldId id="268" r:id="rId37"/>
    <p:sldId id="269" r:id="rId38"/>
    <p:sldId id="270" r:id="rId39"/>
    <p:sldId id="271" r:id="rId40"/>
    <p:sldId id="272" r:id="rId41"/>
    <p:sldId id="273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" Target="slides/slide1.xml"/><Relationship Id="rId26" Type="http://schemas.openxmlformats.org/officeDocument/2006/relationships/slide" Target="slides/slide2.xml"/><Relationship Id="rId27" Type="http://schemas.openxmlformats.org/officeDocument/2006/relationships/slide" Target="slides/slide3.xml"/><Relationship Id="rId28" Type="http://schemas.openxmlformats.org/officeDocument/2006/relationships/slide" Target="slides/slide4.xml"/><Relationship Id="rId29" Type="http://schemas.openxmlformats.org/officeDocument/2006/relationships/slide" Target="slides/slide5.xml"/><Relationship Id="rId30" Type="http://schemas.openxmlformats.org/officeDocument/2006/relationships/slide" Target="slides/slide6.xml"/><Relationship Id="rId31" Type="http://schemas.openxmlformats.org/officeDocument/2006/relationships/slide" Target="slides/slide7.xml"/><Relationship Id="rId32" Type="http://schemas.openxmlformats.org/officeDocument/2006/relationships/slide" Target="slides/slide8.xml"/><Relationship Id="rId33" Type="http://schemas.openxmlformats.org/officeDocument/2006/relationships/slide" Target="slides/slide9.xml"/><Relationship Id="rId34" Type="http://schemas.openxmlformats.org/officeDocument/2006/relationships/slide" Target="slides/slide10.xml"/><Relationship Id="rId35" Type="http://schemas.openxmlformats.org/officeDocument/2006/relationships/slide" Target="slides/slide11.xml"/><Relationship Id="rId36" Type="http://schemas.openxmlformats.org/officeDocument/2006/relationships/slide" Target="slides/slide12.xml"/><Relationship Id="rId37" Type="http://schemas.openxmlformats.org/officeDocument/2006/relationships/slide" Target="slides/slide13.xml"/><Relationship Id="rId38" Type="http://schemas.openxmlformats.org/officeDocument/2006/relationships/slide" Target="slides/slide14.xml"/><Relationship Id="rId39" Type="http://schemas.openxmlformats.org/officeDocument/2006/relationships/slide" Target="slides/slide15.xml"/><Relationship Id="rId40" Type="http://schemas.openxmlformats.org/officeDocument/2006/relationships/slide" Target="slides/slide16.xml"/><Relationship Id="rId41" Type="http://schemas.openxmlformats.org/officeDocument/2006/relationships/slide" Target="slides/slide17.xml"/><Relationship Id="rId42" Type="http://schemas.openxmlformats.org/officeDocument/2006/relationships/slide" Target="slides/slide18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B8351-6E69-4752-92FA-1FEA7AA52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DB4E0-3EA9-46B8-90DA-AD158F32A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BA1003-A292-4991-ADAE-9AF11BA4C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EF3021-97D2-4AFE-8B0F-E1D32808C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F76A9F-5AD2-40AD-80C2-C458CDE6F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7CD898-87FD-4C13-879E-4AD4691CC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563E2C-090A-439C-BF30-56F776590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9638BA-7A13-4B39-B07B-65B3F4C17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3A7CA1-FC17-42ED-A998-4016449C5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AFBA27-ED53-40D6-858D-7349F598A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EDC6B6-3731-4232-BEC3-8A07835E6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3E44DE-B3C8-464A-BDD5-5C76CDBEA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2827C-6265-4AA3-A400-FB4914903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E16444-41D7-48B7-834D-3DB0D5F0D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F696CB-C871-47A5-944F-0AC59B3E6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8A4A5A-66B0-414D-A86F-0E211A2BC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70BD41-47EA-4DC1-8EF5-A55A25B69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4932B0-8D76-44DF-A71D-BF55BA60B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0F0480-083F-4231-A5EE-A858CD4AD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2C938C-3B1E-45DD-B08D-F2D3B4CE1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65AC8B-A65D-4F9C-894A-810DCF927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672AF5-408E-4AB8-94F7-D875B42F0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5161A2-9350-4791-82E1-0D92FA1E0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23269-8568-4D1A-8099-9E553B372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548E34-1DDF-43A0-9EBE-190312AFD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FBAB4B-5F73-4CDB-AA5D-2A3C501D1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E03F5B-3C79-4182-B686-880424DA4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2848CD-2297-422B-8E17-7B5B4E135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7C5BDC-8572-42F0-A4F4-BF77546DA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CE0674-2C28-44DE-A4C4-2D70B7CA6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B41A6D-03AD-41CB-B44F-BDEE80FE3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368032-B098-42B0-8274-4A57D4C96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FA2886-BDAD-44F0-A25D-768C6546A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6246EF-1059-4AE6-9E76-943AFAEA8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D189E-9A81-4C51-B0A5-E0A4867C7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C691FA-DE2B-48F0-A7F2-0240D506A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5E3B9B-5362-4853-B516-68CAF636F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4BBEB3-D55C-4E18-B61F-94F0E5B82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D9A571-38FE-4AF2-86CB-D59AC835E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5F8F4A-BE8E-419D-93F4-C0711DFCC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4FF74D-F182-4C9F-9923-5CE429972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442271-7169-4B55-BD95-A5CC9294F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670EA6-9951-4EDE-A406-4A4FD82B2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69BB0C-2B5F-4F50-AD00-CFDDE2EB6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BC6231-3492-4C44-902A-C22F402E8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A263F-CFA1-445B-9CFD-4C4361CBE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71191E-9E43-410C-B38E-BEE92CCD4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6BB83E-0F67-48B5-A990-320113EB0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C0BC83-957C-45FE-85CE-EBA307844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4A837F-43E8-4050-B94A-424CE5D3E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87E41F-D962-4E3A-A420-58C544EA7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BAE85CB-84C2-4B9D-AC77-88A802AB5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B0576C6-396F-4233-B70C-BB61B5577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CF84096-4F12-495C-BE77-74C441BD0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B50BF96-0D89-4D5E-9580-428204AF4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9D6DABE-1425-4719-91A5-F5A796D20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AF032-0B05-446C-B02C-81ECF0AB7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2878F0D-3348-45ED-9F0B-0163811CA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9812DEE-A89F-4BA3-BB14-B9D395942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EDC4EC4-D1D7-43F8-B267-3A91EAC8A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87CDED9-2D6F-4A3B-AAF7-8275BD0B1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8ACE2F2-F036-475A-946A-63CCBE8B0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4BB6BD5-1DA5-4870-BA4B-AF190673D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B4A3A90-4F67-40EA-9978-77F825FA3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CF4232D-F6A5-4029-92A5-F5CC4D9C2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B78771D-B610-4610-92A1-9C2B45FC7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0BE452A-4124-4C47-A2C1-368B99534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665F7-B529-4C2D-A308-7F6B1E06A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366B5B6-EE50-4985-8BF7-EA2668D3C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EBB0849-E222-4D1C-91C3-2069323FF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B665A62-2F62-4197-B32A-1F3E447C1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BC70AC2-0C31-48C1-BD06-719145005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08E6CC1-38B8-4C40-B3D5-5028392C1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D2742F4-B68D-4BDC-9BF0-0DFDEE856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452A5D7-89F4-404F-88B7-CEAA88498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0EA246F-2DBF-4F33-9C58-DCACF6DB4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D8AA362-9961-48E0-9899-0A59B24E4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1526297-EF1B-4FA1-B9BF-8B03FEA26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F99B3-5DCD-405E-941D-4EC2504A4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572DC5F-A276-447F-9C5B-A84BF6B26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54226DF-FBB5-4E78-8AF8-CE8742D43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D041F59-0659-4C83-BC8D-1A57E60C5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B41D94F-452A-450F-AF0A-C4B7F3694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EF5FA7F-6AE5-4F85-B76A-CA59C9858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17297FD-EDD7-47AC-9705-2EA57253C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53CB9C3-EAF6-4CF3-991A-9BF4DF375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3A054C5-991D-4722-8E3D-B4FB89676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D005404-A609-412E-BA49-D1ACC7240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47A4183-63AF-4E6A-BD07-BE84EE8DC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051C1-1C88-442B-B3BE-A67A48EA5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74F7F24-5B05-4CC1-8267-CC3E50949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66B3508-40E7-4677-ADF7-16AA729CA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7F81C04-72D5-44BD-9E22-E1C344A59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F0EF15D-4790-49E4-81D9-13341F00D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7A23438-34C5-4883-A004-7EA186EB6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A90B439-D9A0-4C4B-8038-CC990BCE9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63C0687-E435-430B-835D-CCC310CFD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57CAFE3-DBE2-4279-846B-586D2ABE9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5507A2B-6110-49E9-87DD-AAF76DE3F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26B45E6-A133-4EB3-A9A3-653A89F96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490FA-018D-422C-BC5B-53CA58606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D970E89-0D62-40E6-9256-385EAB271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5041978-05D9-4C6A-8A30-6993EDCFA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BAD1716-CF97-47E1-9D3C-C7C87343D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B14778F-E54A-4C0A-A081-40670AF91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0D0FF8F-D5A2-49AA-98D4-E71346860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87AF32D-7F18-4716-966B-4F12DE804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F3BB028-4C54-440F-B066-4CC40F647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E0C514F-039F-4753-9811-359AB3220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26B9574-E8A6-4CE5-B706-2FCF7E613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BE0AE59-E087-4BD0-8404-1B80D095D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36D0D-2BAE-41D0-A63F-6657673D0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B4A7D-8ABD-4079-91AA-C34AACA24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50F272D-40BF-45CD-9644-454AFF623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162CC8A-011C-429B-9194-20EF1FF43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3B3FFFB-6F1A-4C7B-B83E-4DDD73D0C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278DDC2-976A-42C9-BA34-E4CF62DB5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D387981-CEA4-4891-B44B-30728EFF0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3FE3977-9E42-40C6-9CA9-BC4970000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C4E4A1B-E541-441E-B12A-894ABDF19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1CB0FE3-0D34-4532-9058-340B53040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8155D1C-6FAD-4946-9CC4-4F28D08D2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80DD6DC-BB04-4EAE-BF74-89ACC0568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E32B7-9870-49B3-9F3F-4913E3AEB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5D03502-E7E2-462B-8F71-05AE697A4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D81FB21-FC4C-421A-8ADF-8492149B2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AB36F9F-0F8E-48A6-83AD-A4578D0B9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DC38E6D-9FAE-463A-84CA-B9C1CB09B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BC49A54-BD9A-451D-874A-F905966BF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1A2AD86-DD07-44E7-8AFC-FE1659A96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1A860C8-6550-4CAA-93DD-C976DC901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2294EBD-6390-4FAB-8442-48A402F44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B4BC3CD-831B-4D17-BB90-68FC215DA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FB84FA2-A934-4551-B6E3-C23EB0215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CEC90-7373-4C66-AC8A-3B8B50AF7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27EFB0C-3F5D-42A7-B3F0-88BAE3EB1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77BA8A0-1A5D-4AEB-B7A6-575F26BA6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7CFCFEE-4B8C-4449-AE44-0AC1AC04D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DE5F926-7F9D-486D-80F5-962D8FB12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C152DA9-CB0B-4093-809F-4493DF778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C0C336A-2E00-4AF0-A647-76FBBFF43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40A195F-3C90-4414-911A-0BA7FDBC6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A686F0B-A9C9-4A37-A0CF-9ECBEFA03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9F6CFDD-809E-4B1D-9068-C82889F31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2079CA7-E251-4D80-87DE-7EF1F489D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2907E-E973-4FEF-B0FC-5F210ADC9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80DC395-2A59-45D1-87FB-390E047B4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0A1BE43-2429-44BF-B448-F06CE3A87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E9F1E78-C90B-47D3-BE39-633C486B5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FC14BA7-6669-403B-9F32-EB97ED76B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4B2DC9C-4421-4174-A74A-CC62C2BCA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00EABD5-D05E-4856-A5AA-E5D282EB9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C515631-D662-4438-9F49-6D51FCFA9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3E99EEA-8D7A-4AAC-A045-8C61FD2C6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66B0315-D827-4BF0-B422-279AF5A37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E6EAE13-9A54-4A23-BCFA-5A48052E3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BF544-9D88-4D1C-BF47-F7C5C4A5B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4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8E93B66-123C-4423-94E8-6180DBFD4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6F0810C-FDE6-46CF-8276-460555855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7CAB7E0-C0FE-49F6-BC6D-C3F37B8F5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8BFBD06-38C1-426B-BD10-B5D0E2651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74CD51B-D6B5-4DE7-A5CF-2E25F7CED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9CB8CFB-6855-485E-B7E7-87EC973EE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9C154D5-0B37-44EF-B208-6135C7A78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94ECB37-AE97-4D94-8BCE-3969B9E59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A331E2E-1306-4BEA-A459-ACC68C223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51B1FC6-70F7-4B32-8DEA-07217C627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B8BC66-553E-49C6-923C-C2A9B13B9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5DF361D-6896-4D72-A4C2-BBFCF5EAE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6807762-4624-4588-9910-67AD24D4F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D040A7A-BC00-4336-AEDF-F9F48BAF9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108C6B7-8C0A-43C2-8665-F39446DA8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F4FDAD9-96A6-48AE-B5EC-7D9A338D5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03FCB2E-E72F-4B85-8BD4-F6177EA79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5DF9C7E-571B-4196-90ED-5C663CA68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1DF6D6C-7DC0-4893-A7E1-86A53B17F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FD651B5-3B17-40B2-8486-27770C978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966B720-EA50-4A9B-A571-95606FF6D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D66260-BE00-4E06-A46B-820489D9F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445EE8C-F6E2-41AF-B1BE-D9224BCF1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BB31775-8A7C-4FC6-9CD2-BA2FAA26F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6112C11-8261-407C-9DFF-3BC4687C9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D8704C6-178F-440F-B9F8-7E4CB14FF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F5F78B5-9470-42CA-A398-9E94BC67B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376A5FF-B955-48F2-B9D4-A98A2F4F6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7660DBC-8E16-4CB7-8207-F05DE3BB7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29DB93A-61EA-4D2C-8285-E01F0848B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213702A-255E-49BC-885C-B77064637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CFD1C00-4370-4EEF-929D-63A2E72E6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D2579E-072D-4518-BB3C-8612285EE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95EB255-50B7-4326-93F6-F0C57AF51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B221AB2-4226-45F3-8368-96C59A82B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8DB901C-E077-4436-AB41-FC8BDD0E4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3293243-A0AF-4B37-AE21-827366527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55F24D5-13B8-4469-9CFB-38355682C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B2BE87C-F667-48A5-91F4-9FCFC1FF5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28854B7-CB10-4BE8-8375-D010666E3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5F4A94-EE1C-4215-864F-3715F21FF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95154F-9747-4C1A-8EBA-0B39C19AB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7C302-CCDC-490F-B665-F304B5028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A1BDEC-3670-4484-B06F-E3555BB96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8E4C7F-8225-4D13-9168-694554EE5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2218B2-5E5A-4464-8CFE-2792A757A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5464A5-F459-4128-97C3-2E699D159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0F6783-C88E-4384-B8ED-670935536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AFFB6E-AAF7-41D3-8603-8F0763015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137D27-9792-4B9C-A93F-D5DDA522D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4BE227-463F-4D6A-8463-6FEB9A60F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6F4DB4-3DB0-4EA2-9B5B-5EE6037AF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EA100C-3A7E-4013-875B-14B77D147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BDD4D-E3A7-43A3-90AD-F8EC13757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B03D74-6DFE-4826-8695-1C91BFE6A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3A9E4C-C12F-42F7-8121-7FE2A5B57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07B70A-2951-47DB-8A6E-B14BFBA5F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4AF92D-C612-4BF1-BAEB-3739523BE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40536F-BD02-4EAB-8EC5-239BB971E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59DCA2-FA51-42D6-9971-20852B0BE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944D4C-D814-46B0-AFF3-AB5987282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94CB58-D1CB-4CFE-BC80-56952F2BC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A51018-02CC-4137-9519-1EA1F0B53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5ADD50-BD09-4822-858F-78B8A1BC8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AFD16-8517-4677-972D-D6FE91DFC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3978AD-E90E-43A1-B49E-F61BEB4F2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A9B496-882B-41D3-9FE4-D8263B79E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5AD78C-D9A3-4B0B-842D-65F1D4776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C04C3C-C4C8-4AB9-8BC7-24F2CE47C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4E7FA1-C420-4842-BE09-B98CFC635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BAADC0-1095-4F59-A267-EAA4613F0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82E9D2-1E26-4093-89C9-F48235510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CF9941-28EB-41C2-A602-EAE3E3B6F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082D84-C004-49E6-A219-887C90700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F39430-F902-49FC-B5E9-B0105C59F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DD987-4563-4CDA-AF0D-4533E0B46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69ACEF-B1E0-4A65-A802-A6EE6D00D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8277DC-E858-478C-9B80-53B3C9201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161278-5460-4864-BF28-BA3D692E5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1A1E16-A8B9-496E-9A84-F34BA3C62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4DA5B5-8DD5-48AA-B3F0-4E924D534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FC4272-7160-4087-90CC-AEE0D3C43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B24BC3-BB60-4F5F-B94B-D4070F878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9044C5-788F-4A57-8184-DE064EC95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1E9556-3FBE-4503-92D8-EB53FFE51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45CE87-26A6-41EC-923A-D02E4DE10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AE3DD-314B-4482-9388-C399F24AB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186F1A-0861-4086-BD2D-833542D93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CAC455-C06A-4CFC-84FA-047F23B49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27C3B0-E90A-44A9-B671-D8486FCA7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AA8A06-B9A5-468F-9D20-8C8CAE1B5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ABA7B8-A366-4E69-AA26-CB444BD39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5000C9-A14A-4B5E-A154-1038D7F40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F7B38B-E111-40C8-8198-DFA0E80EC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4ADF53-AB23-44BA-BF1F-BB4C5ED8B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0A8B76-86B7-4198-9556-D3D3BF215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7586F7-DABC-4FBE-A7DF-240696A2E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A3812-A105-4531-9374-8685898F5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CC46FE-A9D4-41A8-A859-4F63C792B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305450-BE8C-4DA2-8B68-468AC729C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C29459-954F-4614-A4F1-9C1F23BCE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35CA96-7AD7-4F36-A5AA-5F514399A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73E7FD-DE77-491F-ABF4-C3EAB65E6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3A17B6-B153-43A1-8E60-1DEE3B99F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054C65-94A2-428E-B620-BB01BE128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25E1E8-2361-49D6-9641-4997C0423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058DB1-CCB1-443F-BE89-6C81869D2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9CEE2B-C3A0-4ED2-A6B9-74DA7B26C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7F9A2-CFE5-4B21-A3EE-81DAC1ACC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D9FCF9-344C-4B05-B8CB-D2A8BC3C9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B8213B-A03E-40AD-B3C6-82428C94C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89BE9C-3CB3-4AF4-8DD9-142C561D6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BEB66A-7FEC-4D01-BCF3-EFAEDBE7C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5E9D1C-7946-489D-B269-21B19515D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7EFD98-DF4B-4DF2-9AA0-449F7CF2B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DA4470-ECC4-4C44-A3E8-57651CA2C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D440DD-6C59-427A-948F-28B60C451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6E3A85-3453-4487-8EF3-B147AA291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0CB968-C93F-4444-8DAC-DDBA5F16A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35A53-262E-453E-B4D8-D239D46EBC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81047-E91F-4B60-9474-AC8575C98D7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79A6F-7F6E-49CB-85FF-A813B4EB2B4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452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3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454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7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458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1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3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474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475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476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0614A-88F8-499C-B4D2-AADDDAABE02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07D4C-7E17-4EB7-AD82-7A5A4AA003B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F541F-317F-4482-B79B-7FC49846D9B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2B39C-C40E-430A-85A2-D22630FE022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64CE5-D556-43A1-B52C-08A49096FA7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DA1CD-D3AE-4383-93DA-F36A6C86638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4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B0944-BB04-4CFC-B366-0253C3A540C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34B7E-4F81-488D-9FA5-5F8C96BFF0A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7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3EECD-90E3-40DE-8A8F-3E3EB63DEB8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8D875-31F8-45BB-85D2-EF198C1FB66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1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92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93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94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95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96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7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98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99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01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702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7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708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728A2-D2DE-4766-BD80-4B01E0F13F7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E14E6-F658-4AD8-AEFD-8A3628E44D1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3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754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755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0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761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1E23E-3FEA-4B42-A943-05BDDA7E45E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6685F-CB10-439B-9E14-83D13F33C9C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7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A766E-F180-40C9-B40A-D08367E29B2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A956B-2669-448B-B107-B28AD64D1EF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1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852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853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4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5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6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7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8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859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B4CC2-1B86-4DCF-8F82-9CABAC4F73E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9B72C-A8FD-460C-A77F-ED72F2E3B95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C3629-7911-45F3-BF93-458F116AE8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5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F54BD-8EDA-4072-B905-67BB7101E3B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12B44-90A4-4E3E-8438-32551090C8D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9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950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951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2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3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54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955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6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7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07884-12DA-4976-A011-CE7EAC22EC7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E07EA-5F85-48B0-8AF0-D6E1E9160EF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1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6F5AA-AFDA-431C-A85F-8C998EFCE63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15837-1DDA-4AA1-B904-09C6D5FCEA1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5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1046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1047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48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1049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0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51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1052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3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54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1055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1056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7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8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9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0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1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1062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3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4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 type="dt" idx="6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8BE93-4806-4287-B419-814AAE71A3C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 type="ftr" idx="6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 type="sldNum" idx="6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C9987-8F1F-4905-BC32-10DA9C8FE11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6D06C-6DC7-4AEF-B924-25CB757DE10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3A04A-834D-47BF-9AC4-816188A4332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8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9874C-FF25-40D8-B474-DDF35F34C8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8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895C8-83C9-4F1F-9A4D-66519C572B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212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213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215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221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C5238-FA1F-4A1B-A9CA-663C4B94178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4DD3F-6D0B-41D1-949B-AA520A27848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48546-DCC8-45EC-B140-15D5B65A4AC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CB5F2-8D5F-404F-A7B5-F7A19BF15AA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310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311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312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7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318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21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7753D-1080-4FF0-B6EE-5D49A2993CE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FF2C7-C1AA-4FC9-A4AF-6849466F1AF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69A89-332C-495B-9E40-5A23FD1931D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79CEC-A4CA-42E4-B92F-9D444F8A242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6" name="Picture 2" descr=""/>
          <p:cNvPicPr/>
          <p:nvPr/>
        </p:nvPicPr>
        <p:blipFill>
          <a:blip r:embed="rId1"/>
          <a:stretch/>
        </p:blipFill>
        <p:spPr>
          <a:xfrm>
            <a:off x="3059280" y="1844640"/>
            <a:ext cx="3085920" cy="638280"/>
          </a:xfrm>
          <a:prstGeom prst="rect">
            <a:avLst/>
          </a:prstGeom>
          <a:ln w="0">
            <a:noFill/>
          </a:ln>
        </p:spPr>
      </p:pic>
      <p:pic>
        <p:nvPicPr>
          <p:cNvPr id="1107" name="Picture 3" descr=""/>
          <p:cNvPicPr/>
          <p:nvPr/>
        </p:nvPicPr>
        <p:blipFill>
          <a:blip r:embed="rId2"/>
          <a:stretch/>
        </p:blipFill>
        <p:spPr>
          <a:xfrm>
            <a:off x="1214280" y="3147840"/>
            <a:ext cx="6715440" cy="5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4" name="图片 1" descr=""/>
          <p:cNvPicPr/>
          <p:nvPr/>
        </p:nvPicPr>
        <p:blipFill>
          <a:blip r:embed="rId1"/>
          <a:stretch/>
        </p:blipFill>
        <p:spPr>
          <a:xfrm>
            <a:off x="352440" y="888840"/>
            <a:ext cx="8439120" cy="5799240"/>
          </a:xfrm>
          <a:prstGeom prst="rect">
            <a:avLst/>
          </a:prstGeom>
          <a:ln w="0">
            <a:noFill/>
          </a:ln>
        </p:spPr>
      </p:pic>
      <p:pic>
        <p:nvPicPr>
          <p:cNvPr id="1135" name="Picture 4" descr=""/>
          <p:cNvPicPr/>
          <p:nvPr/>
        </p:nvPicPr>
        <p:blipFill>
          <a:blip r:embed="rId2"/>
          <a:stretch/>
        </p:blipFill>
        <p:spPr>
          <a:xfrm>
            <a:off x="2286000" y="1785960"/>
            <a:ext cx="3786120" cy="442800"/>
          </a:xfrm>
          <a:prstGeom prst="rect">
            <a:avLst/>
          </a:prstGeom>
          <a:ln w="0">
            <a:noFill/>
          </a:ln>
        </p:spPr>
      </p:pic>
      <p:pic>
        <p:nvPicPr>
          <p:cNvPr id="1136" name="Picture 4" descr=""/>
          <p:cNvPicPr/>
          <p:nvPr/>
        </p:nvPicPr>
        <p:blipFill>
          <a:blip r:embed="rId3"/>
          <a:stretch/>
        </p:blipFill>
        <p:spPr>
          <a:xfrm>
            <a:off x="7929720" y="4033800"/>
            <a:ext cx="519120" cy="44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0" dur="500"/>
                                        <p:tgtEl>
                                          <p:spTgt spid="1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5" dur="500"/>
                                        <p:tgtEl>
                                          <p:spTgt spid="1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7" name="图片 1" descr=""/>
          <p:cNvPicPr/>
          <p:nvPr/>
        </p:nvPicPr>
        <p:blipFill>
          <a:blip r:embed="rId1"/>
          <a:stretch/>
        </p:blipFill>
        <p:spPr>
          <a:xfrm>
            <a:off x="371520" y="971640"/>
            <a:ext cx="8400960" cy="4914720"/>
          </a:xfrm>
          <a:prstGeom prst="rect">
            <a:avLst/>
          </a:prstGeom>
          <a:ln w="0">
            <a:noFill/>
          </a:ln>
        </p:spPr>
      </p:pic>
      <p:pic>
        <p:nvPicPr>
          <p:cNvPr id="1138" name="Picture 4" descr=""/>
          <p:cNvPicPr/>
          <p:nvPr/>
        </p:nvPicPr>
        <p:blipFill>
          <a:blip r:embed="rId2"/>
          <a:stretch/>
        </p:blipFill>
        <p:spPr>
          <a:xfrm>
            <a:off x="7929720" y="2997360"/>
            <a:ext cx="519120" cy="44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2" dur="500"/>
                                        <p:tgtEl>
                                          <p:spTgt spid="1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9" name="图片 1" descr=""/>
          <p:cNvPicPr/>
          <p:nvPr/>
        </p:nvPicPr>
        <p:blipFill>
          <a:blip r:embed="rId1"/>
          <a:stretch/>
        </p:blipFill>
        <p:spPr>
          <a:xfrm>
            <a:off x="324000" y="836640"/>
            <a:ext cx="8496000" cy="5686560"/>
          </a:xfrm>
          <a:prstGeom prst="rect">
            <a:avLst/>
          </a:prstGeom>
          <a:ln w="0">
            <a:noFill/>
          </a:ln>
        </p:spPr>
      </p:pic>
      <p:pic>
        <p:nvPicPr>
          <p:cNvPr id="1140" name="Picture 4" descr=""/>
          <p:cNvPicPr/>
          <p:nvPr/>
        </p:nvPicPr>
        <p:blipFill>
          <a:blip r:embed="rId2"/>
          <a:stretch/>
        </p:blipFill>
        <p:spPr>
          <a:xfrm>
            <a:off x="4786200" y="5643720"/>
            <a:ext cx="519120" cy="44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9" dur="500"/>
                                        <p:tgtEl>
                                          <p:spTgt spid="1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1" name="图片 1" descr=""/>
          <p:cNvPicPr/>
          <p:nvPr/>
        </p:nvPicPr>
        <p:blipFill>
          <a:blip r:embed="rId1"/>
          <a:stretch/>
        </p:blipFill>
        <p:spPr>
          <a:xfrm>
            <a:off x="419040" y="779400"/>
            <a:ext cx="8437680" cy="6039000"/>
          </a:xfrm>
          <a:prstGeom prst="rect">
            <a:avLst/>
          </a:prstGeom>
          <a:ln w="0">
            <a:noFill/>
          </a:ln>
        </p:spPr>
      </p:pic>
      <p:pic>
        <p:nvPicPr>
          <p:cNvPr id="1142" name="Picture 4" descr=""/>
          <p:cNvPicPr/>
          <p:nvPr/>
        </p:nvPicPr>
        <p:blipFill>
          <a:blip r:embed="rId2"/>
          <a:stretch/>
        </p:blipFill>
        <p:spPr>
          <a:xfrm>
            <a:off x="4214880" y="5429160"/>
            <a:ext cx="519120" cy="4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6" dur="500"/>
                                        <p:tgtEl>
                                          <p:spTgt spid="1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3" name="图片 1" descr=""/>
          <p:cNvPicPr/>
          <p:nvPr/>
        </p:nvPicPr>
        <p:blipFill>
          <a:blip r:embed="rId1"/>
          <a:stretch/>
        </p:blipFill>
        <p:spPr>
          <a:xfrm>
            <a:off x="878040" y="812880"/>
            <a:ext cx="7038720" cy="981000"/>
          </a:xfrm>
          <a:prstGeom prst="rect">
            <a:avLst/>
          </a:prstGeom>
          <a:ln w="0">
            <a:noFill/>
          </a:ln>
        </p:spPr>
      </p:pic>
      <p:pic>
        <p:nvPicPr>
          <p:cNvPr id="1144" name="图片 2" descr=""/>
          <p:cNvPicPr/>
          <p:nvPr/>
        </p:nvPicPr>
        <p:blipFill>
          <a:blip r:embed="rId2"/>
          <a:stretch/>
        </p:blipFill>
        <p:spPr>
          <a:xfrm>
            <a:off x="324000" y="1881360"/>
            <a:ext cx="8496000" cy="4836960"/>
          </a:xfrm>
          <a:prstGeom prst="rect">
            <a:avLst/>
          </a:prstGeom>
          <a:ln w="0">
            <a:noFill/>
          </a:ln>
        </p:spPr>
      </p:pic>
      <p:pic>
        <p:nvPicPr>
          <p:cNvPr id="1145" name="Picture 4" descr=""/>
          <p:cNvPicPr/>
          <p:nvPr/>
        </p:nvPicPr>
        <p:blipFill>
          <a:blip r:embed="rId3"/>
          <a:stretch/>
        </p:blipFill>
        <p:spPr>
          <a:xfrm>
            <a:off x="7869240" y="4867200"/>
            <a:ext cx="519120" cy="4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3" dur="500"/>
                                        <p:tgtEl>
                                          <p:spTgt spid="1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6" name="图片 2" descr=""/>
          <p:cNvPicPr/>
          <p:nvPr/>
        </p:nvPicPr>
        <p:blipFill>
          <a:blip r:embed="rId1"/>
          <a:stretch/>
        </p:blipFill>
        <p:spPr>
          <a:xfrm>
            <a:off x="406440" y="920880"/>
            <a:ext cx="8332920" cy="5734080"/>
          </a:xfrm>
          <a:prstGeom prst="rect">
            <a:avLst/>
          </a:prstGeom>
          <a:ln w="0">
            <a:noFill/>
          </a:ln>
        </p:spPr>
      </p:pic>
      <p:pic>
        <p:nvPicPr>
          <p:cNvPr id="1147" name="Picture 4" descr=""/>
          <p:cNvPicPr/>
          <p:nvPr/>
        </p:nvPicPr>
        <p:blipFill>
          <a:blip r:embed="rId2"/>
          <a:stretch/>
        </p:blipFill>
        <p:spPr>
          <a:xfrm>
            <a:off x="5000760" y="6143760"/>
            <a:ext cx="1785960" cy="44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0" dur="500"/>
                                        <p:tgtEl>
                                          <p:spTgt spid="1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8" name="图片 2" descr=""/>
          <p:cNvPicPr/>
          <p:nvPr/>
        </p:nvPicPr>
        <p:blipFill>
          <a:blip r:embed="rId1"/>
          <a:stretch/>
        </p:blipFill>
        <p:spPr>
          <a:xfrm>
            <a:off x="343080" y="979560"/>
            <a:ext cx="8458200" cy="5398920"/>
          </a:xfrm>
          <a:prstGeom prst="rect">
            <a:avLst/>
          </a:prstGeom>
          <a:ln w="0">
            <a:noFill/>
          </a:ln>
        </p:spPr>
      </p:pic>
      <p:pic>
        <p:nvPicPr>
          <p:cNvPr id="1149" name="Picture 4" descr=""/>
          <p:cNvPicPr/>
          <p:nvPr/>
        </p:nvPicPr>
        <p:blipFill>
          <a:blip r:embed="rId2"/>
          <a:stretch/>
        </p:blipFill>
        <p:spPr>
          <a:xfrm>
            <a:off x="5357880" y="866880"/>
            <a:ext cx="1714320" cy="442800"/>
          </a:xfrm>
          <a:prstGeom prst="rect">
            <a:avLst/>
          </a:prstGeom>
          <a:ln w="0">
            <a:noFill/>
          </a:ln>
        </p:spPr>
      </p:pic>
      <p:pic>
        <p:nvPicPr>
          <p:cNvPr id="1150" name="Picture 4" descr=""/>
          <p:cNvPicPr/>
          <p:nvPr/>
        </p:nvPicPr>
        <p:blipFill>
          <a:blip r:embed="rId3"/>
          <a:stretch/>
        </p:blipFill>
        <p:spPr>
          <a:xfrm>
            <a:off x="4643280" y="1378080"/>
            <a:ext cx="1143000" cy="398160"/>
          </a:xfrm>
          <a:prstGeom prst="rect">
            <a:avLst/>
          </a:prstGeom>
          <a:ln w="0">
            <a:noFill/>
          </a:ln>
        </p:spPr>
      </p:pic>
      <p:pic>
        <p:nvPicPr>
          <p:cNvPr id="1151" name="Picture 4" descr=""/>
          <p:cNvPicPr/>
          <p:nvPr/>
        </p:nvPicPr>
        <p:blipFill>
          <a:blip r:embed="rId4"/>
          <a:stretch/>
        </p:blipFill>
        <p:spPr>
          <a:xfrm>
            <a:off x="7715160" y="1320840"/>
            <a:ext cx="519120" cy="442800"/>
          </a:xfrm>
          <a:prstGeom prst="rect">
            <a:avLst/>
          </a:prstGeom>
          <a:ln w="0">
            <a:noFill/>
          </a:ln>
        </p:spPr>
      </p:pic>
      <p:pic>
        <p:nvPicPr>
          <p:cNvPr id="1152" name="Picture 4" descr=""/>
          <p:cNvPicPr/>
          <p:nvPr/>
        </p:nvPicPr>
        <p:blipFill>
          <a:blip r:embed="rId5"/>
          <a:stretch/>
        </p:blipFill>
        <p:spPr>
          <a:xfrm>
            <a:off x="1928880" y="2297160"/>
            <a:ext cx="1357200" cy="44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7" dur="500"/>
                                        <p:tgtEl>
                                          <p:spTgt spid="1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2" dur="500"/>
                                        <p:tgtEl>
                                          <p:spTgt spid="1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7" dur="500"/>
                                        <p:tgtEl>
                                          <p:spTgt spid="1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2" dur="500"/>
                                        <p:tgtEl>
                                          <p:spTgt spid="1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3" name="图片 1" descr=""/>
          <p:cNvPicPr/>
          <p:nvPr/>
        </p:nvPicPr>
        <p:blipFill>
          <a:blip r:embed="rId1"/>
          <a:stretch/>
        </p:blipFill>
        <p:spPr>
          <a:xfrm>
            <a:off x="633240" y="1042920"/>
            <a:ext cx="7875720" cy="4772160"/>
          </a:xfrm>
          <a:prstGeom prst="rect">
            <a:avLst/>
          </a:prstGeom>
          <a:ln w="0">
            <a:noFill/>
          </a:ln>
        </p:spPr>
      </p:pic>
      <p:pic>
        <p:nvPicPr>
          <p:cNvPr id="1154" name="Picture 4" descr=""/>
          <p:cNvPicPr/>
          <p:nvPr/>
        </p:nvPicPr>
        <p:blipFill>
          <a:blip r:embed="rId2"/>
          <a:stretch/>
        </p:blipFill>
        <p:spPr>
          <a:xfrm>
            <a:off x="7643880" y="1084320"/>
            <a:ext cx="519120" cy="44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9" dur="500"/>
                                        <p:tgtEl>
                                          <p:spTgt spid="11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5" name="图片 1" descr=""/>
          <p:cNvPicPr/>
          <p:nvPr/>
        </p:nvPicPr>
        <p:blipFill>
          <a:blip r:embed="rId1"/>
          <a:stretch/>
        </p:blipFill>
        <p:spPr>
          <a:xfrm>
            <a:off x="657360" y="1647720"/>
            <a:ext cx="7829280" cy="35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8" name="图片 2" descr=""/>
          <p:cNvPicPr/>
          <p:nvPr/>
        </p:nvPicPr>
        <p:blipFill>
          <a:blip r:embed="rId1"/>
          <a:stretch/>
        </p:blipFill>
        <p:spPr>
          <a:xfrm>
            <a:off x="349200" y="844560"/>
            <a:ext cx="8447040" cy="5886360"/>
          </a:xfrm>
          <a:prstGeom prst="rect">
            <a:avLst/>
          </a:prstGeom>
          <a:ln w="0">
            <a:noFill/>
          </a:ln>
        </p:spPr>
      </p:pic>
      <p:pic>
        <p:nvPicPr>
          <p:cNvPr id="1109" name="Picture 4" descr=""/>
          <p:cNvPicPr/>
          <p:nvPr/>
        </p:nvPicPr>
        <p:blipFill>
          <a:blip r:embed="rId2"/>
          <a:stretch/>
        </p:blipFill>
        <p:spPr>
          <a:xfrm>
            <a:off x="5786280" y="6202440"/>
            <a:ext cx="1000440" cy="44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0" name="图片 1" descr=""/>
          <p:cNvPicPr/>
          <p:nvPr/>
        </p:nvPicPr>
        <p:blipFill>
          <a:blip r:embed="rId1"/>
          <a:stretch/>
        </p:blipFill>
        <p:spPr>
          <a:xfrm>
            <a:off x="587520" y="885960"/>
            <a:ext cx="7970760" cy="5715000"/>
          </a:xfrm>
          <a:prstGeom prst="rect">
            <a:avLst/>
          </a:prstGeom>
          <a:ln w="0">
            <a:noFill/>
          </a:ln>
        </p:spPr>
      </p:pic>
      <p:pic>
        <p:nvPicPr>
          <p:cNvPr id="1111" name="Picture 4" descr=""/>
          <p:cNvPicPr/>
          <p:nvPr/>
        </p:nvPicPr>
        <p:blipFill>
          <a:blip r:embed="rId2"/>
          <a:stretch/>
        </p:blipFill>
        <p:spPr>
          <a:xfrm>
            <a:off x="7500960" y="1285920"/>
            <a:ext cx="1000080" cy="44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" dur="500"/>
                                        <p:tgtEl>
                                          <p:spTgt spid="1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2" name="图片 1" descr=""/>
          <p:cNvPicPr/>
          <p:nvPr/>
        </p:nvPicPr>
        <p:blipFill>
          <a:blip r:embed="rId1"/>
          <a:stretch/>
        </p:blipFill>
        <p:spPr>
          <a:xfrm>
            <a:off x="285840" y="819000"/>
            <a:ext cx="8572320" cy="5915160"/>
          </a:xfrm>
          <a:prstGeom prst="rect">
            <a:avLst/>
          </a:prstGeom>
          <a:ln w="0">
            <a:noFill/>
          </a:ln>
        </p:spPr>
      </p:pic>
      <p:pic>
        <p:nvPicPr>
          <p:cNvPr id="1113" name="Picture 4" descr=""/>
          <p:cNvPicPr/>
          <p:nvPr/>
        </p:nvPicPr>
        <p:blipFill>
          <a:blip r:embed="rId2"/>
          <a:stretch/>
        </p:blipFill>
        <p:spPr>
          <a:xfrm>
            <a:off x="1714680" y="785880"/>
            <a:ext cx="1428480" cy="442800"/>
          </a:xfrm>
          <a:prstGeom prst="rect">
            <a:avLst/>
          </a:prstGeom>
          <a:ln w="0">
            <a:noFill/>
          </a:ln>
        </p:spPr>
      </p:pic>
      <p:pic>
        <p:nvPicPr>
          <p:cNvPr id="1114" name="Picture 4" descr=""/>
          <p:cNvPicPr/>
          <p:nvPr/>
        </p:nvPicPr>
        <p:blipFill>
          <a:blip r:embed="rId3"/>
          <a:stretch/>
        </p:blipFill>
        <p:spPr>
          <a:xfrm>
            <a:off x="7572240" y="1262160"/>
            <a:ext cx="1428840" cy="442800"/>
          </a:xfrm>
          <a:prstGeom prst="rect">
            <a:avLst/>
          </a:prstGeom>
          <a:ln w="0">
            <a:noFill/>
          </a:ln>
        </p:spPr>
      </p:pic>
      <p:pic>
        <p:nvPicPr>
          <p:cNvPr id="1115" name="Picture 4" descr=""/>
          <p:cNvPicPr/>
          <p:nvPr/>
        </p:nvPicPr>
        <p:blipFill>
          <a:blip r:embed="rId4"/>
          <a:stretch/>
        </p:blipFill>
        <p:spPr>
          <a:xfrm>
            <a:off x="1357200" y="1749600"/>
            <a:ext cx="4714920" cy="442800"/>
          </a:xfrm>
          <a:prstGeom prst="rect">
            <a:avLst/>
          </a:prstGeom>
          <a:ln w="0">
            <a:noFill/>
          </a:ln>
        </p:spPr>
      </p:pic>
      <p:pic>
        <p:nvPicPr>
          <p:cNvPr id="1116" name="Picture 4" descr=""/>
          <p:cNvPicPr/>
          <p:nvPr/>
        </p:nvPicPr>
        <p:blipFill>
          <a:blip r:embed="rId5"/>
          <a:stretch/>
        </p:blipFill>
        <p:spPr>
          <a:xfrm>
            <a:off x="8143920" y="2214720"/>
            <a:ext cx="785880" cy="442800"/>
          </a:xfrm>
          <a:prstGeom prst="rect">
            <a:avLst/>
          </a:prstGeom>
          <a:ln w="0">
            <a:noFill/>
          </a:ln>
        </p:spPr>
      </p:pic>
      <p:pic>
        <p:nvPicPr>
          <p:cNvPr id="1117" name="Picture 4" descr=""/>
          <p:cNvPicPr/>
          <p:nvPr/>
        </p:nvPicPr>
        <p:blipFill>
          <a:blip r:embed="rId6"/>
          <a:stretch/>
        </p:blipFill>
        <p:spPr>
          <a:xfrm>
            <a:off x="1368360" y="2714760"/>
            <a:ext cx="785880" cy="44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" dur="500"/>
                                        <p:tgtEl>
                                          <p:spTgt spid="1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" dur="500"/>
                                        <p:tgtEl>
                                          <p:spTgt spid="1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" dur="500"/>
                                        <p:tgtEl>
                                          <p:spTgt spid="1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" dur="500"/>
                                        <p:tgtEl>
                                          <p:spTgt spid="1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0" dur="500"/>
                                        <p:tgtEl>
                                          <p:spTgt spid="1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图片 1" descr=""/>
          <p:cNvPicPr/>
          <p:nvPr/>
        </p:nvPicPr>
        <p:blipFill>
          <a:blip r:embed="rId1"/>
          <a:stretch/>
        </p:blipFill>
        <p:spPr>
          <a:xfrm>
            <a:off x="304920" y="803160"/>
            <a:ext cx="8534160" cy="5838840"/>
          </a:xfrm>
          <a:prstGeom prst="rect">
            <a:avLst/>
          </a:prstGeom>
          <a:ln w="0">
            <a:noFill/>
          </a:ln>
        </p:spPr>
      </p:pic>
      <p:pic>
        <p:nvPicPr>
          <p:cNvPr id="1119" name="Picture 4" descr=""/>
          <p:cNvPicPr/>
          <p:nvPr/>
        </p:nvPicPr>
        <p:blipFill>
          <a:blip r:embed="rId2"/>
          <a:stretch/>
        </p:blipFill>
        <p:spPr>
          <a:xfrm>
            <a:off x="7929720" y="1297080"/>
            <a:ext cx="519120" cy="442800"/>
          </a:xfrm>
          <a:prstGeom prst="rect">
            <a:avLst/>
          </a:prstGeom>
          <a:ln w="0">
            <a:noFill/>
          </a:ln>
        </p:spPr>
      </p:pic>
      <p:pic>
        <p:nvPicPr>
          <p:cNvPr id="1120" name="Picture 4" descr=""/>
          <p:cNvPicPr/>
          <p:nvPr/>
        </p:nvPicPr>
        <p:blipFill>
          <a:blip r:embed="rId3"/>
          <a:stretch/>
        </p:blipFill>
        <p:spPr>
          <a:xfrm>
            <a:off x="7935840" y="6164280"/>
            <a:ext cx="519120" cy="44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7" dur="500"/>
                                        <p:tgtEl>
                                          <p:spTgt spid="1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2" dur="500"/>
                                        <p:tgtEl>
                                          <p:spTgt spid="1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1" name="图片 1" descr=""/>
          <p:cNvPicPr/>
          <p:nvPr/>
        </p:nvPicPr>
        <p:blipFill>
          <a:blip r:embed="rId1"/>
          <a:stretch/>
        </p:blipFill>
        <p:spPr>
          <a:xfrm>
            <a:off x="266760" y="673200"/>
            <a:ext cx="8610480" cy="5648400"/>
          </a:xfrm>
          <a:prstGeom prst="rect">
            <a:avLst/>
          </a:prstGeom>
          <a:ln w="0">
            <a:noFill/>
          </a:ln>
        </p:spPr>
      </p:pic>
      <p:pic>
        <p:nvPicPr>
          <p:cNvPr id="1122" name="图片 2" descr=""/>
          <p:cNvPicPr/>
          <p:nvPr/>
        </p:nvPicPr>
        <p:blipFill>
          <a:blip r:embed="rId2"/>
          <a:stretch/>
        </p:blipFill>
        <p:spPr>
          <a:xfrm>
            <a:off x="684360" y="6392880"/>
            <a:ext cx="6838920" cy="419040"/>
          </a:xfrm>
          <a:prstGeom prst="rect">
            <a:avLst/>
          </a:prstGeom>
          <a:ln w="0">
            <a:noFill/>
          </a:ln>
        </p:spPr>
      </p:pic>
      <p:pic>
        <p:nvPicPr>
          <p:cNvPr id="1123" name="Picture 4" descr=""/>
          <p:cNvPicPr/>
          <p:nvPr/>
        </p:nvPicPr>
        <p:blipFill>
          <a:blip r:embed="rId3"/>
          <a:stretch/>
        </p:blipFill>
        <p:spPr>
          <a:xfrm>
            <a:off x="7918560" y="5904000"/>
            <a:ext cx="519120" cy="44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9" dur="500"/>
                                        <p:tgtEl>
                                          <p:spTgt spid="1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4" name="图片 1" descr=""/>
          <p:cNvPicPr/>
          <p:nvPr/>
        </p:nvPicPr>
        <p:blipFill>
          <a:blip r:embed="rId1"/>
          <a:stretch/>
        </p:blipFill>
        <p:spPr>
          <a:xfrm>
            <a:off x="333360" y="685800"/>
            <a:ext cx="8477280" cy="616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图片 1" descr=""/>
          <p:cNvPicPr/>
          <p:nvPr/>
        </p:nvPicPr>
        <p:blipFill>
          <a:blip r:embed="rId1"/>
          <a:stretch/>
        </p:blipFill>
        <p:spPr>
          <a:xfrm>
            <a:off x="291960" y="714240"/>
            <a:ext cx="8561520" cy="6115320"/>
          </a:xfrm>
          <a:prstGeom prst="rect">
            <a:avLst/>
          </a:prstGeom>
          <a:ln w="0">
            <a:noFill/>
          </a:ln>
        </p:spPr>
      </p:pic>
      <p:pic>
        <p:nvPicPr>
          <p:cNvPr id="1126" name="Picture 4" descr=""/>
          <p:cNvPicPr/>
          <p:nvPr/>
        </p:nvPicPr>
        <p:blipFill>
          <a:blip r:embed="rId2"/>
          <a:stretch/>
        </p:blipFill>
        <p:spPr>
          <a:xfrm>
            <a:off x="1643040" y="1071720"/>
            <a:ext cx="1857240" cy="442800"/>
          </a:xfrm>
          <a:prstGeom prst="rect">
            <a:avLst/>
          </a:prstGeom>
          <a:ln w="0">
            <a:noFill/>
          </a:ln>
        </p:spPr>
      </p:pic>
      <p:pic>
        <p:nvPicPr>
          <p:cNvPr id="1127" name="Picture 4" descr=""/>
          <p:cNvPicPr/>
          <p:nvPr/>
        </p:nvPicPr>
        <p:blipFill>
          <a:blip r:embed="rId3"/>
          <a:stretch/>
        </p:blipFill>
        <p:spPr>
          <a:xfrm>
            <a:off x="5786280" y="2048040"/>
            <a:ext cx="3000600" cy="442800"/>
          </a:xfrm>
          <a:prstGeom prst="rect">
            <a:avLst/>
          </a:prstGeom>
          <a:ln w="0">
            <a:noFill/>
          </a:ln>
        </p:spPr>
      </p:pic>
      <p:pic>
        <p:nvPicPr>
          <p:cNvPr id="1128" name="Picture 4" descr=""/>
          <p:cNvPicPr/>
          <p:nvPr/>
        </p:nvPicPr>
        <p:blipFill>
          <a:blip r:embed="rId4"/>
          <a:stretch/>
        </p:blipFill>
        <p:spPr>
          <a:xfrm>
            <a:off x="1357200" y="2548080"/>
            <a:ext cx="3143520" cy="44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6" dur="500"/>
                                        <p:tgtEl>
                                          <p:spTgt spid="1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1" dur="5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6" dur="500"/>
                                        <p:tgtEl>
                                          <p:spTgt spid="1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9" name="图片 1" descr=""/>
          <p:cNvPicPr/>
          <p:nvPr/>
        </p:nvPicPr>
        <p:blipFill>
          <a:blip r:embed="rId1"/>
          <a:stretch/>
        </p:blipFill>
        <p:spPr>
          <a:xfrm>
            <a:off x="304920" y="760320"/>
            <a:ext cx="8534160" cy="4770360"/>
          </a:xfrm>
          <a:prstGeom prst="rect">
            <a:avLst/>
          </a:prstGeom>
          <a:ln w="0">
            <a:noFill/>
          </a:ln>
        </p:spPr>
      </p:pic>
      <p:pic>
        <p:nvPicPr>
          <p:cNvPr id="1130" name="图片 2" descr=""/>
          <p:cNvPicPr/>
          <p:nvPr/>
        </p:nvPicPr>
        <p:blipFill>
          <a:blip r:embed="rId2"/>
          <a:stretch/>
        </p:blipFill>
        <p:spPr>
          <a:xfrm>
            <a:off x="1324080" y="5661000"/>
            <a:ext cx="7515000" cy="1152720"/>
          </a:xfrm>
          <a:prstGeom prst="rect">
            <a:avLst/>
          </a:prstGeom>
          <a:ln w="0">
            <a:noFill/>
          </a:ln>
        </p:spPr>
      </p:pic>
      <p:pic>
        <p:nvPicPr>
          <p:cNvPr id="1131" name="Picture 4" descr=""/>
          <p:cNvPicPr/>
          <p:nvPr/>
        </p:nvPicPr>
        <p:blipFill>
          <a:blip r:embed="rId3"/>
          <a:stretch/>
        </p:blipFill>
        <p:spPr>
          <a:xfrm>
            <a:off x="2000160" y="4572000"/>
            <a:ext cx="1000080" cy="442800"/>
          </a:xfrm>
          <a:prstGeom prst="rect">
            <a:avLst/>
          </a:prstGeom>
          <a:ln w="0">
            <a:noFill/>
          </a:ln>
        </p:spPr>
      </p:pic>
      <p:pic>
        <p:nvPicPr>
          <p:cNvPr id="1132" name="Picture 4" descr=""/>
          <p:cNvPicPr/>
          <p:nvPr/>
        </p:nvPicPr>
        <p:blipFill>
          <a:blip r:embed="rId4"/>
          <a:stretch/>
        </p:blipFill>
        <p:spPr>
          <a:xfrm>
            <a:off x="6381720" y="5630760"/>
            <a:ext cx="2428920" cy="443160"/>
          </a:xfrm>
          <a:prstGeom prst="rect">
            <a:avLst/>
          </a:prstGeom>
          <a:ln w="0">
            <a:noFill/>
          </a:ln>
        </p:spPr>
      </p:pic>
      <p:pic>
        <p:nvPicPr>
          <p:cNvPr id="1133" name="Picture 4" descr=""/>
          <p:cNvPicPr/>
          <p:nvPr/>
        </p:nvPicPr>
        <p:blipFill>
          <a:blip r:embed="rId5"/>
          <a:stretch/>
        </p:blipFill>
        <p:spPr>
          <a:xfrm>
            <a:off x="1285920" y="6127920"/>
            <a:ext cx="2643120" cy="62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3" dur="500"/>
                                        <p:tgtEl>
                                          <p:spTgt spid="1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8" dur="500"/>
                                        <p:tgtEl>
                                          <p:spTgt spid="1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3" dur="500"/>
                                        <p:tgtEl>
                                          <p:spTgt spid="1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8-04T03:46:09Z</dcterms:modified>
  <cp:revision>46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828</vt:lpwstr>
  </property>
</Properties>
</file>